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CAAD-10B8-4504-A454-2B28AA0A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5EDC-1125-476C-BC46-9367DC9E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AF88-3549-4BC8-83E3-46E8BDD7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EB3E-489C-47F9-B874-A2C9B374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CEB3-20C2-45E1-89B1-2F718DCB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2D4-259C-412A-B120-3FF95C8E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BD47-E8C8-4352-A558-CB0D65B3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937A-FDAB-4135-8F57-14C5E7E9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E9C-3F02-4EEF-BE3D-D78E73B0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33AE-2EDB-4381-9036-197CE288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2ADA-EF6B-4263-B5A7-C2DE6DD8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93A-1A2E-4201-8178-4F8DC13C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865E-CA5B-46A2-AD9E-88F74EB512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betv.co.uk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epresentation of culture/ethnic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arning Objectiv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uild notes on representations of Ethn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How much do we know about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do-Asian cultu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 the UK we define anyone from what is known as the ‘Indian sub-continent’ as being Asian. In the US, Asians are those from oriental Asia (China, Japan, Korea et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at nations make up the Indian sub-contin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d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kistan( which was part of India until 194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ri Lan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nglade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scuss: How could you tell the difference between people of these n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hysical 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lo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10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1000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1000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dian sub-continent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which country is Karach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religion is this a symbol of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ich country used to be known as Ceyl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which country is the cricketer Sachin Tendulkar fr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ich UK city has the highest concentration of UK A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which country do they speak Punjabi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which country are most of the UK owners of Indian restaurants fr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is a samos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meat are Muslims forbidden to ea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Indian weddings what is the dowr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kis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n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ri La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ic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nglad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astry with a veg or meat f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ney given to the bride’s family from the groom’s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56108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thn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cuss these questions with your partn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is meant by ethnicit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is the difference between nationality and ethnic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is your ethnic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re people within the same ethnic group the same in all ways? Are their different “types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thnicit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 cultural distinctiveness based on a number of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w is Ethnicity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What contributes to a person’s ethnicity? A combination of fac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olour of ski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li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Na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ultural specifics- food, clothing, cust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Ethnicity is a complex issue – it involves more than just place of birth or colour of sk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What are the main ethnic groups within Lond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Newham has more than 150 languages spoken in it. However language is just one way to breakdown culture as many languages are spoken within one country or cul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thnicity and the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thnic Niche markets’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he media providing for a specific ‘niche’ market base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ethn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ok at this exampl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OBE TV - YOUR CHANNEL OF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an you list some other media products/channels that are specifically targeting their audience based on ethnicit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ow ethnically diverse is the mainstream British media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ample: 1Xtra is the BBCs attempt at targeting a smaller niche market or is 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2560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‘Apu’ 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haracter of Apu in the Simpsons divides opinion particularly amongst the Asian commu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ch this clip and then discuss his representation as an Asian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 Simpsons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gets a way with it because it’s an animation and it uses exaggerated stereotypes to create humour (Chief Wiggum and the police, Krusty and Jewish). However the issue is whether non-Asian audiences are laughing at the character's ‘Asianess’ or at the ‘clever’ use of stereotyp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sians in the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sian community in the UK are well represented on television, particularly in broadcast news me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2735280" cy="1538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419640" y="3284640"/>
            <a:ext cx="1758960" cy="2338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72360" y="2997360"/>
            <a:ext cx="2592360" cy="2495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2004840" cy="1717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932360" y="4581360"/>
            <a:ext cx="1608120" cy="2068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4360" y="4292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ajesh Mirchend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2924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eorge Alagi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43280" y="6093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rtin Bash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61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z Late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3068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rishnan Gurumurt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ther Asians in the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588000" y="4941720"/>
            <a:ext cx="2232000" cy="1489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4508640"/>
            <a:ext cx="194436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987640" y="13413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68360" y="1268280"/>
            <a:ext cx="1923840" cy="2952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95640" y="6165720"/>
            <a:ext cx="43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4508640"/>
            <a:ext cx="3887640" cy="20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an you name any other Asians in the med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hat reasons can you give for there being fewer ‘Asian popstars’or acto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227640" y="1413000"/>
            <a:ext cx="21654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sians in the media continu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353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ould be said that Asians are under-represented in other areas of the media notably, film and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cus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films can you name that feature Asian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many UK Asian musical artists can you name?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Asian stereoty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3640" y="1673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ome of common Asian stereotyp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rd working and stud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siness mi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ong sense of family- close k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at Maths (and crick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ney/status orient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ligious/m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ranged marri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ssive (except for terroris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scus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an you name some media examples where these stereotypes are evid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3:07:06Z</dcterms:created>
  <dc:creator>gokul</dc:creator>
  <dc:description/>
  <dc:language>en-US</dc:language>
  <cp:lastModifiedBy>JAlois</cp:lastModifiedBy>
  <dcterms:modified xsi:type="dcterms:W3CDTF">2010-09-17T10:07:16Z</dcterms:modified>
  <cp:revision>31</cp:revision>
  <dc:subject/>
  <dc:title>Representation In Soap Opera</dc:title>
</cp:coreProperties>
</file>